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EF2-15FA-4EA9-AEBF-6A78D0E3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05E-C38F-4E9E-BD51-79A9E591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0C5-9B6D-4E8B-827F-9924C64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8B9-526D-414B-857B-A2364E53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BB8A-048F-4ADE-9E2B-BC9552B7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55B5-A7E1-4859-AD2B-914CE03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362-6A8C-4E51-9382-5F06FAF8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DA3-94E4-4DCC-B64C-8E45C500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72C-7FB8-47FA-BD3D-266B795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7B96-A6F9-4D1E-9580-D32F025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12F5-2B08-49F2-A576-71845F2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208-ADB9-4437-A424-E477B2FB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73C1-BA6E-496C-9CCF-926D089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693-BD71-4868-91FC-4BCAAC7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4B29-3284-48B4-9C1A-E1B2A071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20B-95F0-4FDB-8BD0-32639F22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6F24-FFDA-4D09-B209-01A9BEFD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9C0-E6B4-4CFF-A57D-0D76D82F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F92-1F33-4077-BEAF-110CDC80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320-5097-486E-8FB4-CA53510C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E76-2250-46E9-8203-18580F3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80B-CA0B-422C-9B4A-DC7051C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867-6FD4-4283-A135-22BC09F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A7D-2206-408E-9E7D-3B40E2A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72D-77DA-4605-BB8B-60BAFB60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43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C61-1547-4E41-B28D-D5F31456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xile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Measures of Academic Progres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rientation for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7" descr="http://www.richland2.org/map/R2TV_MAP_Runner/img0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http://www.richland2.org/map/R2TV_MAP_Runner/img0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Results to Drive Lear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352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broken down by su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95280" y="1523880"/>
            <a:ext cx="7315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est and reports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in fall and spring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grow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371600" y="502920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are cumulative to 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ver time.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Value Add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or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Ps reports are aligned to the academic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match K-5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show district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d for comparison with 500,000 others across the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orts show “Lexiles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lex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Name:  poway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ay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first visit to Lexile 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analyze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with your rea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f “Back” button to mai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Search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ent Guide to M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them for your friends and neighb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952880" y="2571840"/>
          <a:ext cx="283860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71840"/>
                    <a:ext cx="28386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Guide to M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tudent taking the test will       rece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2971800" y="3124080"/>
          <a:ext cx="52578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24080"/>
                    <a:ext cx="52578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http://www.richland2.org/map/R2TV_MAP_Runner/img00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ttp://www.richland2.org/map/R2TV_MAP_Runner/img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www.richland2.org/map/R2TV_MAP_Runner/img005.gif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http://www.richland2.org/map/R2TV_MAP_Runner/img0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http://www.richland2.org/map/R2TV_MAP_Runner/img0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http://www.richland2.org/map/R2TV_MAP_Runner/img00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http://www.richland2.org/map/R2TV_MAP_Runner/img00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http://www.richland2.org/map/R2TV_MAP_Runner/img0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22:56:04Z</dcterms:created>
  <dc:creator>Learning Support Services</dc:creator>
  <dc:description/>
  <dc:language>en-US</dc:language>
  <cp:lastModifiedBy>Jeff McQuistan</cp:lastModifiedBy>
  <dcterms:modified xsi:type="dcterms:W3CDTF">2011-02-17T19:55:18Z</dcterms:modified>
  <cp:revision>34</cp:revision>
  <dc:subject/>
  <dc:title>MAPs</dc:title>
</cp:coreProperties>
</file>